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7A9-DBA2-422C-9566-D08E40E9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072-CA68-45AA-9482-A51B7A29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055-5D0A-4055-A8BB-427F8D5E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70F-77AE-4C35-851A-D8F96B62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C27B-F2AF-4876-921A-D80E2026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997-EBAD-4A91-B925-096E0F5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AD6E-2DFB-44FF-998B-4F47B06C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1EE-0D8B-46C9-B391-AC1AAA4C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6C02-87D5-49F5-812B-1DCF9DEA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1B6-08DD-4565-97F0-A85ABE1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C1BE-07B7-4E64-A187-109FF3B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4A5-C1A8-485C-8895-E911232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C36-8B73-4675-95F4-A4084D2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0D71-A9E4-4C44-9DBB-DCBB92B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1D45-4EB9-49FF-BA50-AB251329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E1F-1971-4F4B-BA81-6348D414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9D7E-F997-4B87-BA0F-EA61DC4D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0C23-E009-4D17-A0A5-9842FF50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8218-547A-44FA-AA6A-B3524F5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7BF8-956D-4864-AD58-2C0A3320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FD58-4E70-4350-8BF7-E055062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D3D3-8CA3-4BFA-B680-E7F6E68F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405-94E8-42E9-A6DF-A76E5D0B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8EF6-1D31-4AD2-839E-73874BE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3B3F-2EAC-4876-81C6-930E4F8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6B2B-C4D8-49D5-AC1D-BCDA290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80DA-8733-47CE-A798-5BCE38D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EAF5-F337-4AAB-9319-C97876B3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5C7B-3538-4910-A72E-5AD681AB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53AB-E938-4EF2-890C-3FF86722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65F-F027-48C9-A0D6-255709C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D95-9F45-4CEB-89E9-F33E1141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C19-EF48-46D6-8CE6-78474A6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F12-F5A0-489B-A9AB-FB284CB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036-0377-4FDA-A9D1-0F70845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671-210E-479D-8C04-1CA95918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DF1F-139C-43DF-802A-F8288312D1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B5A6-7930-4F2D-A3BB-DF23100A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834-7798-444C-BD0F-41A4AB0D86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1A31-5597-4D81-84E9-9AD56B643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63DF-5910-4DB0-AC1A-39B1B7DF59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09AD-F7A0-4A21-AEDD-7A17FF15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nri Matti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9 -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09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220680"/>
            <a:ext cx="5037120" cy="663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6126-6A3F-409D-B7B1-BEBD74083E3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7EC07D9-6F26-4AB1-ADD1-E57992C376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2440" y="903240"/>
            <a:ext cx="6639120" cy="50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B3F3-0D30-40E3-824C-6EB9606159A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C8DC9C57-EE81-46C0-AB84-58D171A71D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46432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4675-FC9F-4059-831A-F9ADCB5EC7B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838AF75B-FBF6-4406-A015-D7B496EA28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dsor Lt BT"/>
              </a:rPr>
              <a:t>Henri Mati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ll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42516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4129-D3F1-4EC0-BDD6-08950082CFE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A084CCF5-6F0F-4A2C-9E96-C322747431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96920" y="1754280"/>
            <a:ext cx="5150160" cy="33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D85D-A9CF-47B2-81BC-C2891CBBEF1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3E4C3C2-26C8-4CDC-8CE6-9A43C9A6E6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63800" y="1763640"/>
            <a:ext cx="5216400" cy="33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988F-07C3-4217-9362-80FCF906C64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C1717C40-686F-45FF-9032-B994BD61EB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55880" y="1738440"/>
            <a:ext cx="523080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B8E7-E9D6-47C7-A666-F8303E21DF19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C5A884D-B35E-40BF-B434-797D34F7F6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55800" y="2362320"/>
            <a:ext cx="2682720" cy="327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733920" cy="27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426B-7079-4D03-BED9-03A9DA64BC1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1B58064-9351-4BAB-BFEC-F0D30F7A1F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ti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890800" cy="3610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35680" y="21337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E4C5-272E-4CC2-84B0-6E1E8F12168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DE925B6-CDF6-409E-AD55-B4C43AE78C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1869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French painters in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Law in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riously ill when he was 21 and turned to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culptor, graphic designer and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 of the Fauvist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02D-45D7-4809-8795-211C6AFAAB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C2FAD-23AD-40A6-AF81-E82A01B7A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41960" y="2286000"/>
            <a:ext cx="2595600" cy="4038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559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69F9-F77E-439C-93A8-088A35C2E4E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B011814-ACE2-4E4D-A983-0739B0D65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24280" y="2216160"/>
            <a:ext cx="4038840" cy="3327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3520" y="2421000"/>
            <a:ext cx="3504960" cy="312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BCD4-7C34-4622-8906-936F24CF121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D52826E0-8D64-4505-B713-B14B0D7B59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1942920" cy="403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362F-E642-4D81-A4BF-993ABA55128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B177F00-F71F-4DEE-A506-F89CECF24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3089160"/>
            <a:ext cx="3353040" cy="2540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562720" y="2743200"/>
            <a:ext cx="221616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7F8A-2FDC-4468-9D77-B6097D69615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705EBCF-CAFD-444B-995D-7AB304F93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uvist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066680"/>
            <a:ext cx="6858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yle of painting that flourished in France from 1898 to 19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pure, briliant color, applied straight from the paint tubes in an agressive direct manner to create a sense of explo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: different colors in face, background, looks un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2001960" cy="282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267080" y="3505320"/>
            <a:ext cx="3657600" cy="30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EBA-DFC8-4DD7-AFF4-FB07D0D0EF4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8FE2D-B1CB-4DB5-B2EA-7726FD25F3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’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d to paint colorful pictures about music and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 abstract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became too ill to stand and paint, he created scenes with shapes cut out of paper, “Drawing with Scissors”, also know as co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patterns in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6D3-972E-4F78-89EE-8594F9137F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2B0B7-EFAA-4380-A20F-6579247C71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36880" y="762120"/>
            <a:ext cx="36082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7A6F-5E4D-4C57-BC39-9C7683BFBA7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3BACB4C-70BD-4F01-8B14-6C9C7A159B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ri Matis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4460760" cy="66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4827-B2E2-4699-9564-EE8FF09C5C4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E5049F0-5F38-4859-8713-DC60E007AD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36800" y="216000"/>
            <a:ext cx="5270400" cy="642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A04E-4232-45A3-98D4-C30C1863496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87DC4C8-7D9E-49E6-9F22-FAB2B25603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100480" cy="64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8C7E-97FC-4CCF-8D73-EC593288402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F718A74-7DB8-489C-B72E-21EB1544F8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4:27:51Z</dcterms:created>
  <dc:creator>Patrick J. Mooney</dc:creator>
  <dc:description/>
  <dc:language>en-US</dc:language>
  <cp:lastModifiedBy>Patrick J. Mooney</cp:lastModifiedBy>
  <dcterms:modified xsi:type="dcterms:W3CDTF">2012-02-13T02:01:59Z</dcterms:modified>
  <cp:revision>14</cp:revision>
  <dc:subject/>
  <dc:title>Henri Mattise</dc:title>
</cp:coreProperties>
</file>